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613-4F9C-4C49-AA47-EF8C2328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20E-55F4-44A1-9A26-695294F4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50F-165A-4162-B70A-FB4ADCC0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DC4-2964-41BD-873C-4ECA943F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53C2-3BEC-4C5B-984D-1566777E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DCED-5813-40F0-B737-4B59F4FF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7BE5-1BEC-471B-B070-ABE63AD2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2418-3DFB-4E8E-B8A4-B7F02CAC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EA30-9897-4B38-9B4D-EACF7BF1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B95A-1AF9-474E-AEBD-5D578E03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C556-D081-4FA1-97E1-9E770452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90C6-B071-46F5-A71E-126084A8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5A8D-7B36-4B6D-B2CA-0C715ABC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111F-28D8-4485-99E8-D8F94B24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2739-0276-43A0-BF64-69C38D16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E3C3-18BE-4CEC-94EE-9B9DBE44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B812-C0C8-415C-8F8B-03B28EE7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47A8-1076-4E57-A1EE-2981BBBB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E9D9-33F1-4711-8898-01952304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9F15-4064-48A1-8CEF-240F18A9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41DD-D536-4FFA-AC4E-17995E70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7D5B-85F7-4E30-AE76-DCFB6117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AC625-B082-495D-B0BD-DF3BE4B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5CBB-B092-4B00-8621-24842F2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9DAE-407A-4913-BEB9-F890F4B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8FE4-2F43-43D7-92B2-9FDEE73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28A5-5758-40DB-AB8B-111FBE3A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630C-2515-491C-B11E-24B7F23C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697-4FD1-4C6C-841E-24F52049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CB1-6815-4FCF-B6BD-6CA0B972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D13-7A68-4581-AEE0-7C1D69F6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8F5-9937-428F-8FAD-3CA60F66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447-CD91-4248-91E5-869ACA4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66A-2450-40AC-BF24-0584DFF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4E5-0C47-4745-AB57-ED013F43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1B6-2674-420E-9034-4445A68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9939-F288-4DFE-B0E7-88517A5E4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39DB-8452-4BDB-A078-5606AE5AB20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A660-851A-48DF-BD80-6327D6C145B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77920" y="1695240"/>
            <a:ext cx="8656560" cy="12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5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059280" y="59612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Čatež, 25. maj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ravokotnik 1"/>
          <p:cNvSpPr/>
          <p:nvPr/>
        </p:nvSpPr>
        <p:spPr>
          <a:xfrm>
            <a:off x="289080" y="328680"/>
            <a:ext cx="732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DNEVNI R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ravokotnik 2"/>
          <p:cNvSpPr/>
          <p:nvPr/>
        </p:nvSpPr>
        <p:spPr>
          <a:xfrm>
            <a:off x="289080" y="1020600"/>
            <a:ext cx="885492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zdravni nagov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stavitev in potrditev dnevnega re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trditev Zapisnika 4. redne seje Odbora za spremljanje Operativnega programa za izvajanje evropske kohezijske politike v obdobju 2014–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stavitev in potrditev Letnega poročila 2017 za Operativni program za izvajanje evropske kohezijske politike v obdobju 2014–2020 za cilj Naložbe za rast in delovna m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8155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5. Izvajanje finančnih instrumentov 2014–2020 (FI)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6. Sprememba meril za izbor operacij v okviru Operativnega programa za izvajanje evropske kohezijske politike v obdobju 2014–2020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7. Poročilo organa za potrjevanje za Operativni  program za izvajanje evropske kohezijske politike v obdobju 2014–2020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8. Poročilo revizijskega organa za Operativni program za izvajanje evropske kohezijske politike 2014–2020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9. Izvajanje Slovenske strategije pametne specializacije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15800" y="1531440"/>
            <a:ext cx="8304480" cy="32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10. Seznanitev z izhodišči za spremembo Operativnega programa za izvajanje evropske kohezijske politike v obdobju 2014–2020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11. Seznanitev o napredku komunikacijske strategije z analizo rezultatov in letnim načrtom za leto 2018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12. Predstavitev in potrditev Letnega načrta vrednotenja izvajanja Operativnega programa za izvajanje evropske kohezijske politike v obdobju 2014–2020 za leto 2019 in predstavitev izvajanja Letnega načrta vrednotenja izvajanja operativnega programa za leto 2017 in leto 2018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13. Predstavitev aktivnosti povezanimi z Makroregionalnimi strategijami EU in teritorialnim sodelovanjem v programskem obdobju 2014–2020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7000" y="236700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ttp://www.eu-skladi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8-05-28T06:44:09Z</dcterms:modified>
  <cp:revision>42</cp:revision>
  <dc:subject/>
  <dc:title>PowerPoint Presentation</dc:title>
</cp:coreProperties>
</file>